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5970-6D08-4D55-976B-79D18C34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9A6E-196F-4899-BAD7-16D745B1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58A3-8E8E-4299-A345-795BF35C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862-561D-4B41-8DBE-10680EBA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359-69D9-4854-BF1C-ED0E6D29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7EF-8C1A-4488-8643-5E9C97BF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CB3C-AFF4-45BB-9BE3-71066DDB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0374-2007-4FC6-88CD-77581805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10ED-7BAB-4B6A-A603-3D439B79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55C6-FD65-429D-AE45-F52F9762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1FEA-198D-489C-812C-1EC39F06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2217-BB77-40EA-8874-E23F4927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74E2-891F-456C-AF93-E0FCAA5F67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925640" y="993600"/>
            <a:ext cx="552276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856800" y="999720"/>
            <a:ext cx="7572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Т.о., если заданы массы точек, силы, действующие на точки системы, и начальные условия, то поведение системы определяется однозначно. В этом проявляется причинная обусловленность механического дви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85920" y="1142640"/>
            <a:ext cx="657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оотношения, связывающие ускорения с координатами и скоростями, называются уравнениями дви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85520" y="856800"/>
            <a:ext cx="7715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Движение механической системы N материальных точек подчинено уравнениям , выражающим второй закон Ньютона, который называют также основным уравнением динамики или уравнениями дви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3419640" y="4357800"/>
            <a:ext cx="315252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856800" y="999720"/>
            <a:ext cx="7572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сли известны массы всех точек и их положения в любой момент времени, то, используя эти уравнения, можно определить силы как функции времени. Однако несравненно более трудной задачей является отыскание радиус-векторов точек как функций времени, если заданы силы как функции положений точек, их скоростей и време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56800" y="571320"/>
            <a:ext cx="7572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математическом отношении эта задача является задачей о нахождении общего решения системы 3N дифференциальных обыкновенных уравнений 2-го порядка. Это решение будет зависеть от 6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произвольных постоянных и может быть записано в вид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=1…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352600" y="5000760"/>
            <a:ext cx="4505400" cy="6188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568440" y="10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520" y="214200"/>
            <a:ext cx="8001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стоянные интегрирования связаны с начальными условиями. Пусть известно общее решение и заданы начальные положения и скорости точек системы, т.е. заданы ,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898989"/>
                </a:solidFill>
                <a:latin typeface="Monotype Corsiv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. Дифференцируя общее решение по времени, получим скорости точек как функции времени и 6N произвольных постоянн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=1…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2571840" y="2500200"/>
            <a:ext cx="1811160" cy="519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5000760" y="2495520"/>
            <a:ext cx="1638000" cy="504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3"/>
          <a:stretch/>
        </p:blipFill>
        <p:spPr>
          <a:xfrm>
            <a:off x="2946240" y="4786200"/>
            <a:ext cx="398304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99680" y="99972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лагая в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истемах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будем имет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=1…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928800" y="1522440"/>
            <a:ext cx="1214280" cy="642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2"/>
          <a:stretch/>
        </p:blipFill>
        <p:spPr>
          <a:xfrm>
            <a:off x="2732040" y="1000080"/>
            <a:ext cx="3983040" cy="604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1071720" y="2633760"/>
            <a:ext cx="6858000" cy="866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4"/>
          <a:stretch/>
        </p:blipFill>
        <p:spPr>
          <a:xfrm>
            <a:off x="1143000" y="4071960"/>
            <a:ext cx="6613560" cy="928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53964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53964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57200" y="999720"/>
            <a:ext cx="6500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Допуская, что эта разрешима относительно постоянных интегрирования, найдё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285840" y="3286080"/>
            <a:ext cx="8717040" cy="7858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3429000" y="4929120"/>
            <a:ext cx="23749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56800" y="999720"/>
            <a:ext cx="7572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дставляя это в общее решение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, получим общее решение движения механической системы в вид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=1…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1000080" y="1643040"/>
            <a:ext cx="4357800" cy="596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63520" y="3681360"/>
            <a:ext cx="86662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3:29:31Z</dcterms:created>
  <dc:creator>Михаил</dc:creator>
  <dc:description/>
  <dc:language>en-US</dc:language>
  <cp:lastModifiedBy>Михаил</cp:lastModifiedBy>
  <dcterms:modified xsi:type="dcterms:W3CDTF">2010-10-17T19:43:27Z</dcterms:modified>
  <cp:revision>4</cp:revision>
  <dc:subject/>
  <dc:title>Слайд 1</dc:title>
</cp:coreProperties>
</file>